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427-5463-46AA-92A4-00D568F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7A1-80E0-47A7-B486-49BD62D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B8915-3357-4E58-B202-CCE478FC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26906-307C-4CCB-B879-31026BF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543B5-C0A1-4973-945A-F833358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7A3D-5C1F-41AE-83EA-62D199D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28FE4-80C2-4C58-98CC-2CE7228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E59F-7521-4CFA-BF0D-FE875A5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EB485-C3E5-4B56-BE2D-5243A488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E640E-9927-49DA-9A24-DD367C33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EFE57-7A59-4D37-8EE4-C366846D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4F3E2-8847-4795-921E-E6F662D9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FAE-F149-442F-BD82-0E80322C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E4792-6483-4868-BC41-1EFBC82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8BB4-6AB6-486F-B6DB-DC21D6A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CEB4B-6C4B-4CCC-890E-ED8B93A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6DC8A-631B-4C36-9E17-9B2D3BD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BC8B6-D8B3-4F7C-A6E3-75CCFB4E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CB6D0-5A64-4BBF-9561-2D5CCC5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1C5C9-5C73-4241-947E-23B353F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282F5-8185-4160-BA97-EBD5A36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C3D56-4D86-4187-B2DB-5654E3B9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ED474-CC82-4F4D-8B10-BB039FC6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322-CCA9-44F3-A87A-2321A4A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E1C3A-1E9F-4654-8F87-4CBFD014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39B2-8135-48A0-9CD9-86F992C2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97DCA-B4A0-4A14-89A4-92C39B4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E363-636D-4F83-BC77-37DAC386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1791-F615-46C4-82D5-3F5626A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534AE-65BC-4938-8AB4-97239F1B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3BA93-80F8-4D88-9B59-E9583B7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D169-787C-47A7-A18B-C4602D8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72BD-A073-433D-ADD8-131615E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FE4A0-9D3F-45A7-9C1D-F621623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441-1310-45D2-8C1E-0F3C5CB2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B1C9F-DAE3-499B-B7E3-83179E7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C125-1743-4BAC-8A55-B30C3B1F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B625B-AB09-4AD8-8375-E772553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A470-E46B-4F9D-8DB5-DE831C4C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BDFC0-4963-44F2-8B50-64AE7DB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0A06C-9700-49B5-B127-A1C22D5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AACB9-199F-45F2-9480-8E7733E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3A68-F104-4145-A4E7-95E86D0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45B86-7F7A-4FC2-B0A6-2EB29AD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9CD97-6A0A-403A-A1AE-EA77BD2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6F44-9D00-478F-A335-C4AD9F02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3BF7F-47C2-45FD-9674-B3D9D73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DAD36-F78D-43C2-8685-E910308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E5E3B-B09A-4BE6-85DA-40DD1BF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E6503-EDC4-4ECF-9B58-C64A91F1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E3FC3-F9F8-4933-AD16-8CDFFF5E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5053-6E59-463A-A504-4980373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9C9-F84F-4259-850D-6690E41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E62F-97A1-483B-A144-491D13E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5F1-E22B-4E19-A663-85E37E35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809-C54B-4307-95C4-7EEC011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1D7-0C0A-4A8E-B867-D17CFBE1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0A5E-5BDC-4069-AD89-845FFB0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EE00-2DA5-4BC2-A569-BBB5060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6D7-262C-4F5C-9947-B3A9A6B6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D67-8799-4997-8CD5-3BA81F68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621-81F6-4A07-B51A-BEF28ABD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DE9C-5E6B-48B1-968B-50862BB1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65C6-B0DE-4613-B28A-9385F28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0C0F-558E-46D1-A332-69F1263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8AF2-6D51-43AA-83EE-0FB4B47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1D03-1AEE-48FC-91D4-6B91141A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AFD-C2B6-40FA-9B8D-53F48E4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98C7-FFAC-488D-A9DB-3C74A47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739F-84B6-4DCC-A7B1-3F4909D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7C57-E303-499D-8903-F485212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C6F7-A721-45C9-ABED-D8615F6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D89F-652E-448B-82A3-88178E4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57B4-0EF2-4CE8-B71C-6370C218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3020-D19E-4057-BBB9-09A4AC6F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AB68B-BF72-4CDB-83EA-B1FE3FB5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DE84-18E4-41DD-8590-EADF0F1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F120-7C42-433D-A9EC-5560FCE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042-41ED-4E5D-BC60-2C6E6E6A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EE9C-ADF8-49A2-A2CC-F3A43575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84B4-A447-456E-AD67-BDA9D92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E7CA-0B74-4556-8A11-9D4509D9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36676-BB36-4360-B7C4-000808F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8F8D-DF91-4810-A61C-968AC1B8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FD8D-DD2B-4C21-AA66-EA4F0FE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777B-519B-41C0-924A-90E50D2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3282-908A-4AA5-A579-52C42AED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1EEC-3C4D-462A-B3DF-3F26CDC0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1340-46C4-49B6-B8EC-0248F742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990-9D10-489D-86AA-DB850F50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DB3F-B840-41A7-A11B-B0FECAC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5119-9991-4A11-B1A6-4139DEF8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51C0-867E-4FA7-97DC-84A6AF6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EBAD-A4A1-4A01-8A5E-E18C3B4F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162B-2506-42F4-9C10-3EF15A0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6BCA-F3C9-442E-B634-7D6CBEB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0348-5813-448B-ADBC-A5611E2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237B-F129-4599-9227-BC49517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19C9-7E1E-4B1C-8714-F9FB1CA6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512F-D607-4CC7-B71F-BBB4627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C2E-1167-407D-8970-185AA97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5870-40F5-407E-ACC1-A7A3692A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147D-279F-4BE3-8890-9879735E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77EE-DF3A-4CA3-9F16-62FE23B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6C82-6E5F-466F-BE7C-A80AF60B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AB4F-8C2B-46C5-904F-7A97A10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40DB-65DE-456F-B6A8-7BEA6FDA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F3DF-342E-4CA8-95DA-3C55F372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0AE0-91B0-403F-AF58-3A541C6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52AA-BB6B-4AB8-9019-ACCE166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D279-ECA8-4CD0-8584-E8330B3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CF1-06CA-4D98-9BE6-4AAD8E4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64B4-B84B-4D18-BDE3-74009099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4577-17EC-4471-8204-26139FBA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B27E-37D0-4F8B-9EED-F6AF2B63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1097-6873-49A9-9B25-18834F66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CCFF3-D2C9-4734-AA90-95D46EFE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E9E8-D20F-4177-9EF5-DFD8B6C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DB84C-F250-4CA2-BBF7-8F62210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FF8F-4FA7-4105-B10B-9FFADC7A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77F3-84F5-4EF4-B794-78E50A59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C5DF2-60E0-4B97-B39A-0BBE375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F60-7EA0-4373-9500-122A8D8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CD0D-00DA-41A9-9EDF-D2360B2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2A21-686C-4F69-B5AB-88A0BC1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E45BB-5A57-417F-A2EC-9E62F064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6F7B-D3F4-44B7-B2DF-0453D91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013A9-9C2A-46AD-AD65-E7E81296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3481-D65B-4C57-A2CE-47EDF726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03B2-C7C1-4279-95E5-4010E3C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2FD0D-3264-401D-B350-1737E2F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3A65-23D2-4AD3-A9DC-1B8EB222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2E225-122B-410C-BE6A-44ACAFF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4DA-CCB0-402A-9BC9-35458351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CF89-8611-44B8-B9C6-AAF60CB1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32D4D-3A61-4B5E-B997-74A29F5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D2FC1-2159-402B-9633-DE44C53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D1AE-F145-40B7-B406-18E4E45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0EF81-1765-4C15-86A5-A1E37CC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B63C-2422-458F-9C5A-BD55CB46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4649B-D08E-4CF4-9637-DC6F11D3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36763-5F6C-470F-BC50-727C731A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786A0-CBB4-41A4-865E-007F5E3F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322F-70B9-47E9-B31D-E8C19F3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03A-AFCC-4820-94FC-91BB1632B7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790B-6CA7-4467-989E-30792A2743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79C-39CC-46A4-A768-D42DF9969F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977-2C0B-437C-94EF-20FB8B6F17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F6FD-407F-4E6E-8C37-291D462F60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CED-BA24-444F-AA0F-5A9C6CF57D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444-FF7F-41A0-8334-2E7DEFFA0C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918-12B3-4B3B-9F48-0B2433F65A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4D1-ECBE-41B9-B16A-98143FA99F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F65-FD66-4D4E-9A8C-DC88358767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26A8-BD8C-4249-AC90-F39F972049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4FFE-F1DC-4EB6-BE2C-A539E669E3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6 S Ježiš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Ježišom chcem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ú chvíľ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ť týmto sveta údol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a vedie, on mi dáva sil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keď je so m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eľ svoj nestrat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chcem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čokoľvek sa 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esť tíši, rany zah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dna búrka s Krist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ozná nie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keď som s n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zlého neboj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dobia vždy cest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nné kve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to býva tŕním pokryt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v skúšk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 svoje d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v svojej lásk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 pamätá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ilosť len tv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lieham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je tvoj, ten iste nezhy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ba ty si, Pane, moj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chcem byť s teb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ávy otčine.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8:41Z</dcterms:modified>
  <cp:revision>21</cp:revision>
  <dc:subject/>
  <dc:title>Je veľký náš Pán, on slávy je Kráľ Nech do všetkých strán  spev vrúcnych znie chvál.</dc:title>
</cp:coreProperties>
</file>